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740275"/>
        <c:axId val="20895056"/>
      </c:barChart>
      <c:catAx>
        <c:axId val="50740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95056"/>
        <c:crosses val="autoZero"/>
        <c:auto val="1"/>
        <c:lblAlgn val="ctr"/>
        <c:lblOffset val="100"/>
        <c:noMultiLvlLbl val="0"/>
      </c:catAx>
      <c:valAx>
        <c:axId val="20895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40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CB3-16D3-415D-8AEE-314D67B3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5C1-B2CB-42C6-8C43-659883C3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6A2-0754-41DE-BEF5-C8C0955D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D7B-8BF0-4270-B29B-46ABF5B2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CA1-F709-44D8-A0A1-EEB5B67F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D0D7-40AF-43BA-96B7-5EB14012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488-E7B0-4901-8D6E-55222245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FAD-7C3F-4368-8D33-9CC39D95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6756-78EC-4341-8107-AEE084B3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38C-8CA3-4344-BFBB-9D3F784D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F66-1A5D-445B-B8B8-A8C9AABE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4EB-ABFC-4C3D-A868-ECC81DCD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01582-1267-4450-956F-9F9B90638B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