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83689"/>
        <c:axId val="86471488"/>
      </c:barChart>
      <c:catAx>
        <c:axId val="70683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1488"/>
        <c:crosses val="autoZero"/>
        <c:auto val="1"/>
        <c:lblAlgn val="ctr"/>
        <c:lblOffset val="100"/>
        <c:noMultiLvlLbl val="0"/>
      </c:catAx>
      <c:valAx>
        <c:axId val="86471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3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A0B-ED38-416E-BF24-9EC2021C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FBE-F6C4-455C-A12A-0F6A0113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D6C-1048-4586-98D9-2B15A33C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640-579F-4D2A-A09F-49238B41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2E9-191A-4153-99C1-210BD5E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647-B235-47D8-98A6-077DE9FB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B44-2562-4A0C-A4C4-9C90622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23D-F730-456B-80B4-F4CAA992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D13-CB15-4489-B9E0-BFD63C49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FD8-6CD9-4D7E-8D83-F725CD1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A24-C3C8-40AF-84D6-C8416327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B96-FF2E-46FC-84EF-332963D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18211-D977-4301-BF8D-EDB0C06C1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