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715864"/>
        <c:axId val="49913756"/>
      </c:barChart>
      <c:catAx>
        <c:axId val="587158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13756"/>
        <c:crosses val="autoZero"/>
        <c:auto val="1"/>
        <c:lblAlgn val="ctr"/>
        <c:lblOffset val="100"/>
        <c:noMultiLvlLbl val="0"/>
      </c:catAx>
      <c:valAx>
        <c:axId val="49913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158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CBB-07E8-4731-BCB7-0F4D530D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4932-9FD3-4278-BAA6-E0754853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67B-EC3F-403A-809F-853378D5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F2EC-D42B-424A-9F88-6CFB2857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2BC-EB29-44F8-8476-DFA6FC0C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79F-B866-4A6E-867A-E6B3BBAF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513-A207-469B-B887-5667F073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11E1-448C-4C66-BD28-D18F2168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B8F-D443-4243-A2BA-26E07AF7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958-A844-488C-8D1D-060A8176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A5FC-771A-4B6C-8FA0-03B00F76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FDC3-E96A-43F9-AEAC-AEA8AE79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3A9DA-B81C-42E5-8AEA-16717A753F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