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07894"/>
        <c:axId val="18454347"/>
      </c:barChart>
      <c:catAx>
        <c:axId val="93507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54347"/>
        <c:crosses val="autoZero"/>
        <c:auto val="1"/>
        <c:lblAlgn val="ctr"/>
        <c:lblOffset val="100"/>
        <c:noMultiLvlLbl val="0"/>
      </c:catAx>
      <c:valAx>
        <c:axId val="18454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07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A3F-F8FD-4FCB-9787-2CFA8817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E25-7EC1-40EE-A227-CDA2A092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341-CDB2-402A-9327-FCF265E9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F61-91AD-4C01-B632-EF23CA22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5A0-CDE2-4212-B4D8-9B15B30E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A565-C5F2-4C21-A201-F546877D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0EF4-5A7F-4A6B-8BDE-33255FB3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44E-444A-4FEF-9624-B8CDF4A1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128-D411-4658-A8C9-4313E2BC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2232-B91A-4C42-B2BA-9D9DDFA9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0D8-5AAD-4554-9C19-6D36F5BC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637-0828-444B-A6F5-8CEEBCC5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9DD3B-3E85-40CE-AB2E-1FE667FD9E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